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7CA-C71D-4D3C-B345-6F0A2460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C65-87FA-4643-ACC1-A93F6CD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319-6A3B-4C9F-9E3C-926AE8B6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319-C715-4A13-B83E-29C268E8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31B-290B-4F39-AD5E-78EF8030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B09-74FF-4CBC-BAC6-BFAB2FD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ABB-5158-4522-9AB4-B28D45C0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A56-A7BF-440F-AF8E-15C53AD8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F1C-A146-462B-A578-5B0A0772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E7C-1CF8-4C40-B7DF-5D6E9CFC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473-1F81-460C-BE2F-2FF5803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3F5-D75F-4944-AC73-AF88FDBC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i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040-2F09-4954-B168-A3FC97C05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46080"/>
            <a:ext cx="815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Contratto di servizio Regione Toscana - Trenitalia CONSUNTIVO 201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14440" y="6300720"/>
            <a:ext cx="1542960" cy="276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38880" y="6019920"/>
            <a:ext cx="914400" cy="71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18880" y="3657600"/>
            <a:ext cx="86756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controllo e monitoraggio delle prestazioni: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aggiornamento ottobr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ntratto di servizio Regione Toscana - Trenitalia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60280"/>
            <a:ext cx="8001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87692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5f5f5f"/>
                </a:solidFill>
                <a:latin typeface="Arial"/>
              </a:rPr>
              <a:t>LA LINEA TIRRE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53800" y="5410080"/>
            <a:ext cx="7751880" cy="459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Incontro con gli utenti pendolari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990000"/>
                </a:solidFill>
                <a:latin typeface="Arial"/>
              </a:rPr>
              <a:t>Cecina 25 ottobr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90920" y="1916280"/>
            <a:ext cx="5867280" cy="2198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59436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533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rrenica s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048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rrenica n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6D1-6055-4C01-8D1D-78E8B4307D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il bonus di rimbors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848720" cy="14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ce di riferimento settembre 20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ea (GE) - La Spezia - Pisa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ea Pisa - Livorno - Grosseto (RM)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211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9CA-A0E9-416B-8528-BBD7D872A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il bonus di rimbors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 linea Tirre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senta una affidabilità superiore alla media regionale, sia come soppressioni in assenza di servizio sostitutivo (livello mediamente inferiore alla media regionale) che come puntuali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’ultima registra una costante crescita sia nella tratta Nord (dall’82% del 2009 al 92% registrato nei primi mesi del 2011), che in quella Sud (dal 91% del 3009 al 94% del 20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indice di riferimento per il rilascio dei bonus agli abbonati si è sempre mantenuto inferiore al valore limite di 4 (a settembre 2,1 la Nord, 1,7 la Su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ECE-81C7-4204-BF85-12BA745130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 nuovi Regionali Veloc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I nuovi Regionali Veloci della Tirre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V (regionale Veloce) 34102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Grosseto (6,57) – Firenze SMN (9,3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tempi di percorrenz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GR - PI: 1h 3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GR - FI: 2h 35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990000"/>
                </a:solidFill>
                <a:latin typeface="Arial"/>
              </a:rPr>
              <a:t>con fermate a (Follonica (7,20), Campiglia M. (7,31), Livorno C. (8,12), Pisa C. (8,32), Pontedera (8,47), Empoli (9,04), Lastra a Signa (9,15), FI Rifredi (8,2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V (regionale veloce 34103) Firenze SMN (15,28), Grosseto (18,05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tempi di percorrenz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FI - GR: 2h 37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I - GR: 1H 0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990000"/>
                </a:solidFill>
                <a:latin typeface="Arial"/>
              </a:rPr>
              <a:t>con fermate a: Fi Rifredi (15,34), Lastra a Signa (15,45), Empoli (15,58), Pontedera (16,14), Pisa C. (16,33), Livorno C. (16,50), Campiglia M. (17,32), Follonica (17,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B96-5E91-4E96-8516-936389AD7D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 nuovi Regionali Veloc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803680"/>
            <a:ext cx="3809880" cy="246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2793960"/>
            <a:ext cx="3809880" cy="2487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puntualità dei nuovi 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E68-F059-46D3-8757-6815828D84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 nuovi Regionali Veloc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’inserimento dei nuovi Regionali Velo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l 26 aprile), consente il collegamento Grosseto - Firenze in poco più di 2h 30’ (tempo medio prima oltre 3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corso dei primi mesi di servizio la puntualità non è risultata costante ed è variata tra un minimo di 85% ed un massimo del 100%; migliore quella del treno del mattino in direzione Firen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requentazione è soddisfacente per entrambi i treni; elevato il livello di gradimento dei viaggiatori come risulta dall’indagine appositamente svolta da Trenitalia (presentata a par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A18-DB73-4CE9-8BC2-EAD8022A23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 frequentazione de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3379680"/>
            <a:ext cx="3809880" cy="131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2209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 passeggeri per treno per stazio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66076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9CB-F4F1-4761-89D6-17D0526C30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 frequentazione de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0720" y="2224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 passeggeri per treno per staz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679840"/>
            <a:ext cx="3809880" cy="271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21D-A372-4D09-BF70-61A7E1A8E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 frequentazione de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requentazione media per treno nelle stazioni della Tirrenica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nfronto 2010 - 2011 dei dati relativi alla frequentazione dei treni nei periodo invernale (marzo) ed estivo (luglio), indica una sostanziale tenuta del numero dei passeggeri (le tabelle riportano la media dei saliti / discesi per treno nelle stazioni della linea Tirrenica (Nord e Su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alcune stazioni si rileva una tendenziale crescita nel periodo invernale (ad es. Pisa S.Rossore e Grosseto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ilevazione estiva 2011 è generalmente superiore a quella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09F-3C47-4CED-A508-629DA1EA9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ispezioni effettuate dal nucleo ispettivo regiona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sistono principalmente nel controllo degli aspetti qualitativi del servizio, riguardanti tra l’altro in particolare: il rispetto della composizione,  l’accoglienza a bordo. la pulizia,la climatizzazione ed il riscaldamento, l’informazio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contratto prevede controlli puntuali sugli aspetti di qualità (pulizia, climatizzazione, informazione, composizione, etc.) su di un campione minimo di 500 treni (con particolare attenzione a quelli in fascia pendolare) e di 80 stazioni ogni 6 mes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controlli nei primi sei mesi del 2011 si sono notevolmente intensificati  (+53%) rispetto allo stesso periodo del 20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tabella che segue illustra il peso dei diversi ambiti di controllo sul totale delle ispezioni effettuate nel primo semestre 2011: la pulizia ed il comfort di bordo e l’informazione sia a terra che a bordo risultano i fattori più controlla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lla Tirrenica i treni controllati nei diversi aspetti  fra luglio e settembre sono stati 3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gue una sintesi dei risultati dell’ispezione effettuata il 21 ottobre u.s. sulle stazioni / fermate della Cecina Sa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CEC-F02A-4D68-BFDA-5A88CFA00B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709-1362-4084-862B-56EAD1314A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274176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pezioni effettuate nel periodo luglio - settembre 2011 sulla linea Tirr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4003560"/>
            <a:ext cx="3809880" cy="102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209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 ispezioni del primo semestre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5800" y="2538360"/>
            <a:ext cx="3809880" cy="31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B46-3E19-496F-A68F-C2D44D7E78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i delle ispezioni presso le stazioni della Cecina - Saline effettuate il 21 ottobre 20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OLTERRA – SALINE – POMA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no le indicazioni stradali per raggiungere la stazione ferroviari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edificio non riporta la denominazione della stazione, (sono stati effettuati lavori di ristrutturazione alla facciat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affisso in bacheca non aggiornato, (alcuni orari sono corretti a m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NTE GIN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no le indicazioni stradali per raggiungere la stazione ferroviar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nterscambio autobus- treno è a circa 50 mt dalla stazione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ala di attesa è presente ma chiusa (fot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affisso in bacheca non aggiornato, (alcuni orari sono corretti a man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1AF-DFF5-4624-B4F3-65F15A43F4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ispez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SINO DI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cano le indicazioni stradali per raggiungere la stazione ferrovi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nterscambio autobus- treno è a circa 30 mt dalla stazione posizionato in curva (alla palina manca l'orari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ala di attesa è chiusa. Ci segnalano che nei giorni scolastici vi sono circa 15 studenti che usufruiscono del servizio; il Comune di Guardistallo ha chiesto la riapertura della sal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non aggiornato, (alcuni orari sono corretti a man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PARB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ca interscambio autobus – tren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manifesto orario degli arrivi e delle partenze affisso in bacheca non aggiornato, (alcuni orari sono corretti a man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115-09DF-444E-8BFA-2386335FF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i reclami al Contact Center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76400" y="2786040"/>
            <a:ext cx="3368520" cy="2489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38600" y="273996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6960" y="5413320"/>
            <a:ext cx="77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mero verde gratuito da telefoni fissi e cellul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rario apertura dal lunedì al venerdì 8,00 -19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peratori dedicati sul TPL orario 8,00 -16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1040" y="1789200"/>
            <a:ext cx="735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ntact center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rollo ed il monitoraggio si alimentano anche con il rapporto quotidiano con i cittadini utenti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ttraverso Il Contact Center della Mobi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21C-73D9-4A1E-9C5C-BB1C57BF26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i reclami al Contact Center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reclami nel 2011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ulla Tirren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3233880"/>
            <a:ext cx="3809880" cy="1609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286704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55627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 gennaio - otto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ED5-4AF9-4713-81B9-38B151BBDD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i reclami al Contact Center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reclami nel 2011 sulla Tirrenica: i treni più criti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periodo gennaio - ottobre 20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egnalazioni al n.verde regionale hanno interessato in particolare tre tre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 3102 (Grosseto - Firenze SMN) con 10 recl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 11729 (Firenze SMN - Campiglia M.) con 5 recl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 23377 (Carrara Avenza - Firenze SMN) con 4 recla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 reclami hanno riguardato il R3110, R11852, R11705 (3 reclami per treno); in tutto 64 reclami nel periodo gennaio - otto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 maggior parte dei casi (47%) si lamenta mancato rispetto orario, affollamento e comfort di viaggio (28%), scarsa informazione (17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7D1-C44C-4A60-AC40-EC14C84FB7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3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sseto 5,24 - Firenze SMN 8,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e turno E464, n. 8 MDVE, posti offerti n. 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l 2011 n.10 reclami di cui 3 per ritardi e 3 per affoll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tà segnalate e riscontr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cato rispetto orario; sovraffoll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: molteplici; nel corso del 2010 il livello della puntualità si è sempre mantenuto al di sotto di 90%, con punte negative ad aprile e maggio; sensibile miglioramento nel secondo semestre ma sempre al di sotto della media reg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treno si presenta frequentemente sovraffollato nella parte terminale della tratta (Livorno - Firenz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iesto: data la fascia oraria di arrivo e l’importanza del treno, necessità di periodico monitoraggio e presi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741760"/>
            <a:ext cx="380988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722-AB60-4582-8ADF-45740E3A6C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le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Arial"/>
              </a:rPr>
              <a:t>R117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renze SMN 17,38 - Campiglia M. 20,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ateriale turno E464, n. 6 PR, posti offerti n. 4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. 5 reclami di cui 1 per ritardi nel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iticità segnalate e riscontr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ncato rispetto orari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treno non ha presentato particolari criticità nel corso del 2011, con una puntualità media superiore al 95%; si registra un peggioramento ad ottobre (8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2746440"/>
            <a:ext cx="3809880" cy="2582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ACA-250B-478C-9ACF-F28032210F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n l’attivazione del treno fast Grosseto-Firenze RV 34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è stato modificato l’orario del  treno R 1187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iombino M.ma 6.35-Pisa 8.50) per effettuare a Cecina una precedenza dinamica con il treno RV341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ticipata di 4’ la  partenza del R11874 dalla stazione di Cecina (p. 7.45 anziché 7.49), 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si è reso necessario l’anticipo di 6’ della traccia dei treni R 6941 (Cecina 6.29-Volterra 7.01) e R 6492 (Volterra 7.06-Cecina 7.38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garantire la coincidenza a Cecina di quest’ultimo con l’1187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051-735B-4AF8-A2F8-592CAD9E50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’anticipo della partenza del treno R 694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non consente più la coincidenza a Ceci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i viaggiatori provenienti da sud con il treno R 3102 (Cecina a. 6.28) e per quelli provenienti da nord con il treno R 2335 (Cecina a. 6.2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Inoltre, nei casi di soppressione e sostituzione con bus del treno R 694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poiché il bus parte in ritardo da Cecina per attendere i viaggiatori provenienti dai treni 3102 e 2335, </a:t>
            </a:r>
            <a:r>
              <a:rPr b="0" i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nel viaggio di ritorno da Volterra non sempre riesce a garantire la coincidenza a Cecina con il treno R 1187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8E8-6A6C-4A6D-AEBF-6600E491B8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l servizio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a Tirren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stituisce una delle due tratte fondamentali della rete ferroviaria della Toscana (l’altra è la dorsale): essa si sviluppa lungo la costa tra Carrara e  Orbetello per complessivi 275 km circa; la parte Nord (GE - La Spezia - Pisa) comprende 9 stazioni / fermate; la parte Sud (Pisa - Livorno - Grosseto - (RM), comprende 31 stazioni / fer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livello complessivo del servizio sulla Tirrenica in treni*km è pari a circa il 17% dell’intero servizio regionale (il 12% come numero di treni nel giorno feriale medio - 101 treni su un totale di  86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irrenica Sud, per caratteristiche del servizio, presenta la velocità commerciale più alta dell’intera rete, quasi 75 km/h, rispetto ad una media regionale di circa 60 km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70A-3615-4C44-AE0E-C13B709BE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superare le criticità emerse, sono stati assunti i seguenti  provvedimenti che saranno operativi dal prossimo orario di dicembre 201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osticipo partenza del treno R 11874 alle 7.52 (arrivo invariato a Pisa) effettuando una precedenza non più di tipo dinamico con il R 34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Treni della Cecina-Volterra riportati all’orario di dicembre 201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4E1-A4E4-4E65-BD13-6DE1E796B6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e criticità puntual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Relazione Piombino M. - Campiglia: l’interscambio con il servizio marittimo per l’arcipelago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lazione è servita sia col treno che con corse bus sostitutive: il coordinamento tra il servizio marittimo per l’arcipelago e la stazione di Campiglia M. (treni regionali e IC) si è presentato nel passato (e si presenta tutt’ora) problematico, per la complessità delle relazioni in campo (variazioni dell’orario ferroviario, dei bus e dei traghetti, stagionalità degli orari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in corso una verifica congiunta con le imprese (bus in particolare), per correggere le attuali deficienze ed assicurare il migliore servizio di interscamb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comunque necessario il quadro definitivo dell’orario dal prossimo  dicembre, con particolare riferimento al trasporto ferroviario di lunga percorrenza sulla Tirrenica (IC e ES), al momento non ancora stabili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2E4-234E-4972-A089-29F1347A2E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e soppressioni </a:t>
            </a: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(1)</a:t>
            </a:r>
            <a:endParaRPr b="0" i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816280"/>
            <a:ext cx="3809880" cy="24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68560" y="1981080"/>
            <a:ext cx="284472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213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 Treni soppressi in assenza di bus sostitutiv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641-EA1A-48E8-8B25-C809E0545F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e soppressioni </a:t>
            </a: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(1)</a:t>
            </a:r>
            <a:endParaRPr b="0" i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93760" y="1981080"/>
            <a:ext cx="279396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820960"/>
            <a:ext cx="3809880" cy="243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0" y="213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1) Treni soppressi in assenza di bus sostitutiv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E4E-C6FD-4389-93B7-729CF2B44A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e soppressioni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ea Cecina - Saline di Volt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elazione fa parte della linea 4.Tirrenica Sud (Pisa - Livorno - Grosseto - 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el corso del 2011 (gennaio - settembre), risultano soppressi e sostituiti con autobus n. 565 tr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soppressioni, sempre sostituite con bus) hanno interessato alternativamente tutti i treni della rel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oppressioni 2011 divise per mes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numero tren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4389480"/>
            <a:ext cx="7549920" cy="117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A4D-17A4-4CCB-B7E4-9D53378879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untualit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3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primi 10 me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unt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9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4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primi 10 me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9CD-8CE5-4C7C-99EF-4F6A63FD1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5040360"/>
            <a:ext cx="7772400" cy="82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38280" y="2209680"/>
            <a:ext cx="4118040" cy="2927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10 (GE) La Spezia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130-EC7D-498F-8CB1-4C03B48BB8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LA LINEA TIRRENICA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fidabilità: la puntualità</a:t>
            </a:r>
            <a:endParaRPr b="0" i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190760" cy="297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7772400" cy="814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1828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 4 Pisa  Livorno Grosset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447920"/>
            <a:ext cx="1219320" cy="307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bella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D95-634F-4720-891A-E4E699665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07:15:52Z</dcterms:created>
  <dc:creator>Arnaldo Marini</dc:creator>
  <dc:description/>
  <dc:language>en-US</dc:language>
  <cp:lastModifiedBy>Arnaldo Marini</cp:lastModifiedBy>
  <cp:lastPrinted>2011-10-24T13:44:17Z</cp:lastPrinted>
  <dcterms:modified xsi:type="dcterms:W3CDTF">2011-10-25T08:29:27Z</dcterms:modified>
  <cp:revision>58</cp:revision>
  <dc:subject/>
  <dc:title>Contratto di servizio Regione Toscana - Trenitalia</dc:title>
</cp:coreProperties>
</file>