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4.png" ContentType="image/png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00850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E3ED-CCE9-498E-9FF1-54A87A2F6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6187-3CB1-4B85-9E10-E4B9BF1A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523A-213E-440C-A1C1-4B501CAC3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3833-B982-4567-AEC7-BFAF943F8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0124-2CB2-44C0-9EA3-E62C04A7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8C73-C844-4018-B7C6-5214B33A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B5EC-4715-4CE5-B720-6F1A0AAD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7AC8-7514-4F26-87E8-A51AF879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E381-42DD-4B39-94DA-B218C1EF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4D9C-095E-41E7-B116-B65C85BE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51E5-AB17-425F-83A1-ACBF4854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01B0-BCA3-40C6-B98C-DFBD153D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i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E843-C5B2-49ED-B090-35AB95154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46080"/>
            <a:ext cx="8159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8080"/>
                </a:solidFill>
                <a:latin typeface="Arial"/>
              </a:rPr>
              <a:t>Contratto di servizio Regione Toscana - Trenitalia CONSUNTIVO 201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514440" y="6300720"/>
            <a:ext cx="1542960" cy="2761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238880" y="6019920"/>
            <a:ext cx="914400" cy="71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218880" y="3657600"/>
            <a:ext cx="8675640" cy="579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controllo e monitoraggio delle prestazioni: 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aggiornamento ottobre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3808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ontratto di servizio Regione Toscana - Trenitalia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260280"/>
            <a:ext cx="8001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876920"/>
            <a:ext cx="85345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5f5f5f"/>
                </a:solidFill>
                <a:latin typeface="Arial"/>
              </a:rPr>
              <a:t>LA LINEA TIRRE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53800" y="5410080"/>
            <a:ext cx="7751880" cy="45972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08080"/>
                </a:solidFill>
                <a:latin typeface="Arial"/>
              </a:rPr>
              <a:t>Incontro con gli utenti pendolari: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990000"/>
                </a:solidFill>
                <a:latin typeface="Arial"/>
              </a:rPr>
              <a:t>Cecina 25 ottobre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affidabilità: la puntualità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90920" y="1916280"/>
            <a:ext cx="5867280" cy="2198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5943600" cy="2209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010280" y="53341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rrenica s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30481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rrenica n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1447920"/>
            <a:ext cx="1219320" cy="30708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abella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99E8-D356-47CC-9594-2A7161369D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affidabilità: il bonus di rimborso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495680"/>
            <a:ext cx="7848720" cy="14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dice di riferimento settembre 201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inea (GE) - La Spezia - Pisa: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inea Pisa - Livorno - Grosseto (RM):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,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772400" cy="2111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38080" y="1447920"/>
            <a:ext cx="1219320" cy="30708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abella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DA97-C266-47EC-B4E4-7EB39E5B57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affidabilità: il bonus di rimborso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a linea Tirren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esenta una affidabilità superiore alla media regionale, sia come soppressioni in assenza di servizio sostitutivo (livello mediamente inferiore alla media regionale) che come puntualità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’ultima registra una costante crescita sia nella tratta Nord (dall’82% del 2009 al 92% registrato nei primi mesi del 2011), che in quella Sud (dal 91% del 3009 al 94% del 201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indice di riferimento per il rilascio dei bonus agli abbonati si è sempre mantenuto inferiore al valore limite di 4 (a settembre 2,1 la Nord, 1,7 la Su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7BA9-A9D6-4134-8582-070E8D6ACB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i nuovi Regionali Veloci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I nuovi Regionali Veloci della Tirre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RV (regionale Veloce) 34102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 Grosseto (6,57) – Firenze SMN (9,32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tempi di percorrenza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GR - PI: 1h 32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GR - FI: 2h 35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990000"/>
                </a:solidFill>
                <a:latin typeface="Arial"/>
              </a:rPr>
              <a:t>con fermate a (Follonica (7,20), Campiglia M. (7,31), Livorno C. (8,12), Pisa C. (8,32), Pontedera (8,47), Empoli (9,04), Lastra a Signa (9,15), FI Rifredi (8,2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RV (regionale veloce 34103) Firenze SMN (15,28), Grosseto (18,05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tempi di percorrenza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FI - GR: 2h 37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PI - GR: 1H 02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990000"/>
                </a:solidFill>
                <a:latin typeface="Arial"/>
              </a:rPr>
              <a:t>con fermate a: Fi Rifredi (15,34), Lastra a Signa (15,45), Empoli (15,58), Pontedera (16,14), Pisa C. (16,33), Livorno C. (16,50), Campiglia M. (17,32), Follonica (17,4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5F2E-EDCB-4FA0-97A3-E1B69B4ADF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i nuovi Regionali Veloci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" y="2803680"/>
            <a:ext cx="3809880" cy="2469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48320" y="2793960"/>
            <a:ext cx="3809880" cy="2487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85800" y="20574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 puntualità dei nuovi R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1447920"/>
            <a:ext cx="1219320" cy="30708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abella 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F392-BF4A-40CC-B689-5DADCCCCA8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i nuovi Regionali Veloci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’inserimento dei nuovi Regionali Velo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dal 26 aprile), consente il collegamento Grosseto - Firenze in poco più di 2h 30’ (tempo medio prima oltre 3h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l corso dei primi mesi di servizio la puntualità non è risultata costante ed è variata tra un minimo di 85% ed un massimo del 100%; migliore quella del treno del mattino in direzione Firen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frequentazione è soddisfacente per entrambi i treni; elevato il livello di gradimento dei viaggiatori come risulta dall’indagine appositamente svolta da Trenitalia (presentata a part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88E5-B57B-417E-8D83-56F68E6996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 frequentazione del servizio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5800" y="3379680"/>
            <a:ext cx="3809880" cy="1317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90720" y="22096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dia passeggeri per treno per stazion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18288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 10 (GE) La Spezia P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48320" y="2660760"/>
            <a:ext cx="3809880" cy="2755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38080" y="1447920"/>
            <a:ext cx="1219320" cy="30708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abella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546D-80AC-419B-B0AF-6DDF1C2A58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 frequentazione del servizio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5800" y="3081240"/>
            <a:ext cx="3809880" cy="1914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90720" y="2224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dia passeggeri per treno per stazio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8288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 4 Pisa  Livorno Grosseto (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48320" y="2679840"/>
            <a:ext cx="3809880" cy="2717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38080" y="1447920"/>
            <a:ext cx="1219320" cy="30708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abella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117E-0562-4D69-82EA-4826EA4467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 frequentazione del servizio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Frequentazione media per treno nelle stazioni della Tirrenica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confronto 2010 - 2011 dei dati relativi alla frequentazione dei treni nei periodo invernale (marzo) ed estivo (luglio), indica una sostanziale tenuta del numero dei passeggeri (le tabelle riportano la media dei saliti / discesi per treno nelle stazioni della linea Tirrenica (Nord e Su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alcune stazioni si rileva una tendenziale crescita nel periodo invernale (ad es. Pisa S.Rossore e Grosseto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rilevazione estiva 2011 è generalmente superiore a quella 201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D0F4-48D8-4EFC-9EA8-0364FE3C2B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e ispezioni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e ispezioni effettuate dal nucleo ispettivo regional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sistono principalmente nel controllo degli aspetti qualitativi del servizio, riguardanti tra l’altro in particolare: il rispetto della composizione,  l’accoglienza a bordo. la pulizia,la climatizzazione ed il riscaldamento, l’informazione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l contratto prevede controlli puntuali sugli aspetti di qualità (pulizia, climatizzazione, informazione, composizione, etc.) su di un campione minimo di 500 treni (con particolare attenzione a quelli in fascia pendolare) e di 80 stazioni ogni 6 mes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controlli nei primi sei mesi del 2011 si sono notevolmente intensificati  (+53%) rispetto allo stesso periodo del 201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 tabella che segue illustra il peso dei diversi ambiti di controllo sul totale delle ispezioni effettuate nel primo semestre 2011: la pulizia ed il comfort di bordo e l’informazione sia a terra che a bordo risultano i fattori più controllat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ulla Tirrenica i treni controllati nei diversi aspetti  fra luglio e settembre sono stati 38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egue una sintesi dei risultati dell’ispezione effettuata il 21 ottobre u.s. sulle stazioni / fermate della Cecina Sali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9CD6-FB59-40B0-85BA-9AC6FA8D5B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Il servizio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7772400" cy="2590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38080" y="1447920"/>
            <a:ext cx="1219320" cy="30708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abell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D5F6-1FDD-4721-85E0-7B93ECC860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e ispezioni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81480" y="274176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spezioni effettuate nel periodo luglio - settembre 2011 sulla linea Tirre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48320" y="4003560"/>
            <a:ext cx="3809880" cy="1025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38080" y="1447920"/>
            <a:ext cx="1219320" cy="30708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abella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22096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 ispezioni del primo semestre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85800" y="2538360"/>
            <a:ext cx="3809880" cy="310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0CCC-68CA-4CEB-8813-AD9E1F055A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e ispezioni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sultati delle ispezioni presso le stazioni della Cecina - Saline effettuate il 21 ottobre 201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sult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VOLTERRA – SALINE – POMA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ancano le indicazioni stradali per raggiungere la stazione ferroviaria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’edificio non riporta la denominazione della stazione, (sono stati effettuati lavori di ristrutturazione alla facciata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l manifesto orario degli arrivi e delle partenze affisso in bacheca non aggiornato, (alcuni orari sono corretti a ma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ONTE GINO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ancano le indicazioni stradali per raggiungere la stazione ferroviari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’interscambio autobus- treno è a circa 50 mt dalla stazione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 sala di attesa è presente ma chiusa (foto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l manifesto orario degli arrivi e delle partenze affisso in bacheca non aggiornato, (alcuni orari sono corretti a mano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E193-ABAA-4363-9E79-BF320D36FA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e ispezioni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ASINO DI TER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ancano le indicazioni stradali per raggiungere la stazione ferrovi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’interscambio autobus- treno è a circa 30 mt dalla stazione posizionato in curva (alla palina manca l'orario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 sala di attesa è chiusa. Ci segnalano che nei giorni scolastici vi sono circa 15 studenti che usufruiscono del servizio; il Comune di Guardistallo ha chiesto la riapertura della sal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l manifesto orario degli arrivi e delle partenze non aggiornato, (alcuni orari sono corretti a mano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PARBE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ca interscambio autobus – tren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 manifesto orario degli arrivi e delle partenze affisso in bacheca non aggiornato, (alcuni orari sono corretti a mano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CCF0-4995-4818-A1AB-34CC981C60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i="1" lang="it-IT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990000"/>
                </a:solidFill>
                <a:latin typeface="Arial"/>
              </a:rPr>
              <a:t>i reclami al Contact Center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76400" y="2786040"/>
            <a:ext cx="3368520" cy="2489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38600" y="2739960"/>
            <a:ext cx="3353040" cy="2514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96960" y="5413320"/>
            <a:ext cx="770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Numero verde gratuito da telefoni fissi e cellula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Orario apertura dal lunedì al venerdì 8,00 -19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Operatori dedicati sul TPL orario 8,00 -16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51040" y="1789200"/>
            <a:ext cx="7353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Contact center regi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controllo ed il monitoraggio si alimentano anche con il rapporto quotidiano con i cittadini utenti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attraverso Il Contact Center della Mobi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CD18-5B21-4C1A-8680-104F533E9C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lang="it-IT" sz="2400" spc="-1" strike="noStrike">
                <a:solidFill>
                  <a:srgbClr val="990000"/>
                </a:solidFill>
                <a:latin typeface="Arial"/>
              </a:rPr>
              <a:t>i reclami al Contact Center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9810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reclami nel 2011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sulla Tirreni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5800" y="3233880"/>
            <a:ext cx="3809880" cy="1609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48320" y="2867040"/>
            <a:ext cx="3809880" cy="2343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14400" y="55627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1) gennaio - otto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1447920"/>
            <a:ext cx="1219320" cy="30708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abella 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BCDA-E21D-4F7D-99DE-A3BCD69C9DA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lang="it-IT" sz="2400" spc="-1" strike="noStrike">
                <a:solidFill>
                  <a:srgbClr val="990000"/>
                </a:solidFill>
                <a:latin typeface="Arial"/>
              </a:rPr>
              <a:t>i reclami al Contact Center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reclami nel 2011 sulla Tirrenica: i treni più critic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(periodo gennaio - ottobre 20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segnalazioni al n.verde regionale hanno interessato in particolare tre tren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R 3102 (Grosseto - Firenze SMN) con 10 recla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R 11729 (Firenze SMN - Campiglia M.) con 5 recla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R 23377 (Carrara Avenza - Firenze SMN) con 4 reclam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tri reclami hanno riguardato il R3110, R11852, R11705 (3 reclami per treno); in tutto 64 reclami nel periodo gennaio - ottob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lla  maggior parte dei casi (47%) si lamenta mancato rispetto orario, affollamento e comfort di viaggio (28%), scarsa informazione (17%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8BC1-3ED4-4A4B-963E-B921F3AA23C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e</a:t>
            </a: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riticità puntuali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R31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osseto 5,24 - Firenze SMN 8,3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teriale turno E464, n. 8 MDVE, posti offerti n. 6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l 2011 n.10 reclami di cui 3 per ritardi e 3 per affoll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ità segnalate e riscontra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cato rispetto orario; sovraffoll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: molteplici; nel corso del 2010 il livello della puntualità si è sempre mantenuto al di sotto di 90%, con punte negative ad aprile e maggio; sensibile miglioramento nel secondo semestre ma sempre al di sotto della media region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 treno si presenta frequentemente sovraffollato nella parte terminale della tratta (Livorno - Firenz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hiesto: data la fascia oraria di arrivo e l’importanza del treno, necessità di periodico monitoraggio e presid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48320" y="2741760"/>
            <a:ext cx="3809880" cy="2592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38080" y="1447920"/>
            <a:ext cx="1219320" cy="30708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abella 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36C8-1C26-40C1-B974-DDCE5361245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le</a:t>
            </a: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riticità puntuali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3300"/>
                </a:solidFill>
                <a:latin typeface="Arial"/>
              </a:rPr>
              <a:t>R117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Firenze SMN 17,38 - Campiglia M. 20,2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ateriale turno E464, n. 6 PR, posti offerti n. 4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n. 5 reclami di cui 1 per ritardi nel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riticità segnalate e riscontra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ancato rispetto orario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l treno non ha presentato particolari criticità nel corso del 2011, con una puntualità media superiore al 95%; si registra un peggioramento ad ottobre (87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648320" y="2746440"/>
            <a:ext cx="3809880" cy="2582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838080" y="1447920"/>
            <a:ext cx="1219320" cy="30708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abella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88B4-907A-49D6-BBA1-393CCCD2049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e criticità puntuali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Con l’attivazione del treno fast Grosseto-Firenze RV 341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 u="sng">
                <a:solidFill>
                  <a:srgbClr val="ff0000"/>
                </a:solidFill>
                <a:uFillTx/>
                <a:latin typeface="Arial"/>
              </a:rPr>
              <a:t>è stato modificato l’orario del  treno R 11874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Piombino M.ma 6.35-Pisa 8.50) per effettuare a Cecina una precedenza dinamica con il treno RV3410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nticipata di 4’ la  partenza del R11874 dalla stazione di Cecina (p. 7.45 anziché 7.49), </a:t>
            </a:r>
            <a:r>
              <a:rPr b="0" i="1" lang="it-IT" sz="2000" spc="-1" strike="noStrike" u="sng">
                <a:solidFill>
                  <a:srgbClr val="ff0000"/>
                </a:solidFill>
                <a:uFillTx/>
                <a:latin typeface="Arial"/>
              </a:rPr>
              <a:t>si è reso necessario l’anticipo di 6’ della traccia dei treni R 6941 (Cecina 6.29-Volterra 7.01) e R 6492 (Volterra 7.06-Cecina 7.38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per garantire la coincidenza a Cecina di quest’ultimo con l’1187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1A2F-4F6A-497C-9A13-E3D5D48191E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e criticità puntuali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L’anticipo della partenza del treno R 6941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000" spc="-1" strike="noStrike" u="sng">
                <a:solidFill>
                  <a:srgbClr val="ff0000"/>
                </a:solidFill>
                <a:uFillTx/>
                <a:latin typeface="Arial"/>
              </a:rPr>
              <a:t>non consente più la coincidenza a Cecin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per i viaggiatori provenienti da sud con il treno R 3102 (Cecina a. 6.28) e per quelli provenienti da nord con il treno R 2335 (Cecina a. 6.2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Inoltre, nei casi di soppressione e sostituzione con bus del treno R 6941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poiché il bus parte in ritardo da Cecina per attendere i viaggiatori provenienti dai treni 3102 e 2335, </a:t>
            </a:r>
            <a:r>
              <a:rPr b="0" i="1" lang="it-IT" sz="2000" spc="-1" strike="noStrike" u="sng">
                <a:solidFill>
                  <a:srgbClr val="ff0000"/>
                </a:solidFill>
                <a:uFillTx/>
                <a:latin typeface="Arial"/>
              </a:rPr>
              <a:t>nel viaggio di ritorno da Volterra non sempre riesce a garantire la coincidenza a Cecina con il treno R 11874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A25F-50FB-4F6D-964C-47134B3F3EA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Il servizio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La Tirrenic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costituisce una delle due tratte fondamentali della rete ferroviaria della Toscana (l’altra è la dorsale): essa si sviluppa lungo la costa tra Carrara e  Orbetello per complessivi 275 km circa; la parte Nord (GE - La Spezia - Pisa) comprende 9 stazioni / fermate; la parte Sud (Pisa - Livorno - Grosseto - (RM), comprende 31 stazioni / ferm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livello complessivo del servizio sulla Tirrenica in treni*km è pari a circa il 17% dell’intero servizio regionale (il 12% come numero di treni nel giorno feriale medio - 101 treni su un totale di  86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Tirrenica Sud, per caratteristiche del servizio, presenta la velocità commerciale più alta dell’intera rete, quasi 75 km/h, rispetto ad una media regionale di circa 60 kmh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EA2C-4C49-4F78-8457-567690F7D5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e criticità puntuali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er superare le criticità emerse, sono stati assunti i seguenti  provvedimenti che saranno operativi dal prossimo orario di dicembre 201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Posticipo partenza del treno R 11874 alle 7.52 (arrivo invariato a Pisa) effettuando una precedenza non più di tipo dinamico con il R 341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Treni della Cecina-Volterra riportati all’orario di dicembre 2010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6700-5BCD-4A1B-A259-5F189BCB5A2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e criticità puntuali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Relazione Piombino M. - Campiglia: l’interscambio con il servizio marittimo per l’arcipelago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relazione è servita sia col treno che con corse bus sostitutive: il coordinamento tra il servizio marittimo per l’arcipelago e la stazione di Campiglia M. (treni regionali e IC) si è presentato nel passato (e si presenta tutt’ora) problematico, per la complessità delle relazioni in campo (variazioni dell’orario ferroviario, dei bus e dei traghetti, stagionalità degli orari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’ in corso una verifica congiunta con le imprese (bus in particolare), per correggere le attuali deficienze ed assicurare il migliore servizio di interscamb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È comunque necessario il quadro definitivo dell’orario dal prossimo  dicembre, con particolare riferimento al trasporto ferroviario di lunga percorrenza sulla Tirrenica (IC e ES), al momento non ancora stabili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1552-E2DF-45FA-BB8A-EC96162A982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affidabilità: le soppressioni </a:t>
            </a:r>
            <a:r>
              <a:rPr b="1" i="1" lang="en-US" sz="1600" spc="-1" strike="noStrike">
                <a:solidFill>
                  <a:srgbClr val="990000"/>
                </a:solidFill>
                <a:latin typeface="Arial"/>
              </a:rPr>
              <a:t>(1)</a:t>
            </a:r>
            <a:endParaRPr b="0" i="1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8320" y="2816280"/>
            <a:ext cx="3809880" cy="2444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68560" y="1981080"/>
            <a:ext cx="284472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72000" y="21337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 10 (GE) La Spezia P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54864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1) Treni soppressi in assenza di bus sostitutiv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1447920"/>
            <a:ext cx="1219320" cy="30708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abella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99A6-8D5D-4EBF-8001-F028F92962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affidabilità: le soppressioni </a:t>
            </a:r>
            <a:r>
              <a:rPr b="1" i="1" lang="en-US" sz="1600" spc="-1" strike="noStrike">
                <a:solidFill>
                  <a:srgbClr val="990000"/>
                </a:solidFill>
                <a:latin typeface="Arial"/>
              </a:rPr>
              <a:t>(1)</a:t>
            </a:r>
            <a:endParaRPr b="0" i="1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93760" y="1981080"/>
            <a:ext cx="2793960" cy="4114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48320" y="2820960"/>
            <a:ext cx="3809880" cy="2433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572000" y="21337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 4 Pisa  Livorno Grosseto (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54864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1) Treni soppressi in assenza di bus sostitutiv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1447920"/>
            <a:ext cx="1219320" cy="30708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abella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C0F4-3E07-4DCD-B0AA-7AA6DA598E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affidabilità: le soppressioni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inea Cecina - Saline di Volte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relazione fa parte della linea 4.Tirrenica Sud (Pisa - Livorno - Grosseto - 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Nel corso del 2011 (gennaio - settembre), risultano soppressi e sostituiti con autobus n. 565 tren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e soppressioni, sempre sostituite con bus) hanno interessato alternativamente tutti i treni della rel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oppressioni 2011 divise per mese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(numero treni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4389480"/>
            <a:ext cx="7549920" cy="1173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38080" y="1447920"/>
            <a:ext cx="1219320" cy="30708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abella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2EBD-2D62-4387-B314-3AAC1AF793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affidabilità: la puntualità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untualit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9: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8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0: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8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1: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93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primi 10 mes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untuali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9: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9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0: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9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1: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94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primi 10 mes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20574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 10 (GE) La Spezia P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20574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 4 Pisa  Livorno Grosseto (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F3A3-D79D-457A-9A32-95D3A9D779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affidabilità: la puntualità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09480" y="5040360"/>
            <a:ext cx="7772400" cy="826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438280" y="2209680"/>
            <a:ext cx="4118040" cy="2927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90720" y="18288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 10 (GE) La Spezia P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1447920"/>
            <a:ext cx="1219320" cy="30708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abella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CC83-308E-4DD1-8EDA-5049C6A009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affidabilità: la puntualità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190760" cy="2978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85800" y="5181480"/>
            <a:ext cx="7772400" cy="814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90720" y="18288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 4 Pisa  Livorno Grosseto (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1447920"/>
            <a:ext cx="1219320" cy="30708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abella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E18F-D419-44CD-B505-91E10E0EE2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4T07:15:52Z</dcterms:created>
  <dc:creator>Arnaldo Marini</dc:creator>
  <dc:description/>
  <dc:language>en-US</dc:language>
  <cp:lastModifiedBy>Arnaldo Marini</cp:lastModifiedBy>
  <cp:lastPrinted>2011-10-24T13:44:17Z</cp:lastPrinted>
  <dcterms:modified xsi:type="dcterms:W3CDTF">2011-10-25T08:29:27Z</dcterms:modified>
  <cp:revision>58</cp:revision>
  <dc:subject/>
  <dc:title>Contratto di servizio Regione Toscana - Trenitalia</dc:title>
</cp:coreProperties>
</file>